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0178A-C2A9-4514-BACC-1D452D37A0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them know that you are talking about Andrew and not Michae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 the title.  Jackson’s Policy Toward Native America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idents have many policies.  This chapter is going to be about policies only for Native America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l this policy be about Native Americans in California?  No.  Had to show a map and have a discussion about loc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’s not about all tribes.  It’s about the Cheroke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the heading – Jackson’s Removal Policy, tell your partner what you think the policy is abou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were going to move them.  When were they going to move them?  On a trai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words make you think this is going to be a difficult journe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 kind of strategy that works only when the books you have use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rmative heading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books use cute heading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rt selections by whether they have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rmative headings that support cogni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 Toss the oth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BF672-E006-461E-947B-DD5589E04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20F21-7E45-4F06-A2F6-91E8FF5D9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11CE6-2685-4CBF-AB9A-5D029838B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B9373-7941-49C1-8055-3485997FF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5569B-3FF7-4D56-BBCE-CB65BB53A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AD1BE-C750-48EA-B4FF-8F25E5876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923B2-BDEE-4D5B-894E-1F1E9DBA8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E77EC-CAB0-4F1B-99DA-D21F20E40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EBFC5-BB7A-45D3-8ED7-C1F8F8432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46EBF-5555-4E52-81EF-648756033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66475-CD0B-4623-8A77-A99ED9357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2F7A6-9B4A-4663-A8B5-A6AB000E0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899D7-2AEC-40B9-B475-7848A8E92C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65ABE-8444-4514-B3C6-D4D4229FE5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ackson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 Policy Toward Native America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pter 12, Section 2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CC0C0-EBF8-4F10-894F-06F84A099D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efore Reading - Preview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1599840"/>
            <a:ext cx="7848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harcoal"/>
              </a:rPr>
              <a:t>Warm-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harcoal"/>
              </a:rPr>
              <a:t>Before you read a chapter or a section of a chapter in your science, social studies, or healt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harcoal"/>
              </a:rPr>
              <a:t>book, Warm-up.   Get an idea of the chapter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000" spc="-1" strike="noStrike">
                <a:solidFill>
                  <a:srgbClr val="000000"/>
                </a:solidFill>
                <a:latin typeface="Charcoal"/>
              </a:rPr>
              <a:t>s content by preview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harcoal"/>
              </a:rPr>
              <a:t>these part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harcoal"/>
              </a:rPr>
              <a:t>BEGI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harco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harcoal"/>
              </a:rPr>
              <a:t>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harco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harcoal"/>
              </a:rPr>
              <a:t>Introd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harcoal"/>
              </a:rPr>
              <a:t>MID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harco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harcoal"/>
              </a:rPr>
              <a:t>Headi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harco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harcoal"/>
              </a:rPr>
              <a:t>Subheadi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harco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harco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harcoal"/>
              </a:rPr>
              <a:t>Summ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Charco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harcoal"/>
              </a:rPr>
              <a:t>Questions          </a:t>
            </a:r>
            <a:r>
              <a:rPr b="0" lang="en-US" sz="1000" spc="-1" strike="noStrike">
                <a:solidFill>
                  <a:srgbClr val="000000"/>
                </a:solidFill>
                <a:latin typeface="Charcoal"/>
              </a:rPr>
              <a:t>Curriculum Associates, </a:t>
            </a:r>
            <a:r>
              <a:rPr b="0" i="1" lang="en-US" sz="1000" spc="-1" strike="noStrike">
                <a:solidFill>
                  <a:srgbClr val="000000"/>
                </a:solidFill>
                <a:latin typeface="Charcoal"/>
              </a:rPr>
              <a:t>Skills for School 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9067E-5078-45A4-A391-85A75814BF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ackson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 Policy Toward Native America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tive Americans in the Southea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EEF6B-35EC-4D3B-BC68-AC5AD41F5A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ackson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 Policy Toward Native America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tive Americans in the Southea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herokee N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E3717-9EEA-417D-AA5B-CE0B74ECDE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ackson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 Policy Toward Native America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tive Americans in the Southea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herokee N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ckson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 Removal Poli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8F6AB-8D65-4D27-83AB-ACBE020B93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ackson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 Policy Toward Native America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tive Americans in the Southea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herokee N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ckson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 Removal Poli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Trail of Tea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CACEC-9F12-46AA-810C-43948589C7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ackson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 Policy Toward Native America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tive Americans in the Southea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herokee N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ckson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 Removal Poli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Trail of Tea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tive American Resist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9E227-6BF4-4944-90A5-921379FCB5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aragraph Shrinking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1295280" y="2057400"/>
          <a:ext cx="7086600" cy="4638600"/>
        </p:xfrm>
        <a:graphic>
          <a:graphicData uri="http://schemas.openxmlformats.org/drawingml/2006/table">
            <a:tbl>
              <a:tblPr/>
              <a:tblGrid>
                <a:gridCol w="7086600"/>
              </a:tblGrid>
              <a:tr h="4638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635040" indent="-635040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635040" indent="-63504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  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me the who or what.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The main person, animal, or thing.)</a:t>
                      </a:r>
                      <a:br>
                        <a:rPr sz="2400"/>
                      </a:b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635040" indent="-63504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  Tell the most important thing about the  who or what.</a:t>
                      </a:r>
                      <a:br>
                        <a:rPr sz="2400"/>
                      </a:b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635040" indent="-63504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     Say the main idea in 10 words or less.</a:t>
                      </a:r>
                      <a:br>
                        <a:rPr sz="2400"/>
                      </a:br>
                      <a:br>
                        <a:rPr sz="2400"/>
                      </a:b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Record your main idea sentence.)</a:t>
                      </a:r>
                      <a:br>
                        <a:rPr sz="2400"/>
                      </a:b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5" name="Rectangle 10"/>
          <p:cNvSpPr/>
          <p:nvPr/>
        </p:nvSpPr>
        <p:spPr>
          <a:xfrm>
            <a:off x="1265400" y="205596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07F47-BADD-40F9-9787-1C0F5D80DA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mericans had different opinions about Native Americans in the Ea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532AA-4354-4B6A-8D0A-7940905C0B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theast tribes had lots of land and adopted white way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4F74F-ABAA-4A3B-B9EA-F49DA6C333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herokee Nation prospered in many way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0D56E-0289-48B1-82BB-5226C6F15C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drew Jacks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ckground Knowledg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5" descr="jackson"/>
          <p:cNvPicPr/>
          <p:nvPr/>
        </p:nvPicPr>
        <p:blipFill>
          <a:blip r:embed="rId1"/>
          <a:stretch/>
        </p:blipFill>
        <p:spPr>
          <a:xfrm>
            <a:off x="685800" y="1981080"/>
            <a:ext cx="3809880" cy="41148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urn to page 3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rea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Jacksonian Democracy (first three paragraph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FBA89-042A-4362-9B0F-EB3AF5BAAB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ttlers and miners wanted the land of the Cheroke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90DEB-FABB-4505-8687-C01F1D97EF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ckson supported moving Native Americans west of Mississippi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72E18-794A-4711-BBE9-73B378F8FF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ckson thought government could tell Native Americans what to d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1B6EF-B013-4413-ABA9-C64A741362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thern states passed laws to take land from Native American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578F8-B704-4A36-8630-2ED14A89D1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pite protests, the Indian Removal Act passed ordering relocatio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C83A5-305E-4DFE-8518-8ECC871E7D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ckson said Native Americans could keep way of life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07E03-6C17-4D67-B33D-B6377FBD71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drew Jacks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ckground Knowledg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3" descr="jackson"/>
          <p:cNvPicPr/>
          <p:nvPr/>
        </p:nvPicPr>
        <p:blipFill>
          <a:blip r:embed="rId1"/>
          <a:stretch/>
        </p:blipFill>
        <p:spPr>
          <a:xfrm>
            <a:off x="685800" y="1981080"/>
            <a:ext cx="3809880" cy="41148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mocr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34CB1-1356-46E7-AFC8-147E9438D3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drew Jacks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ckground Knowledg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3" descr="jackson"/>
          <p:cNvPicPr/>
          <p:nvPr/>
        </p:nvPicPr>
        <p:blipFill>
          <a:blip r:embed="rId1"/>
          <a:stretch/>
        </p:blipFill>
        <p:spPr>
          <a:xfrm>
            <a:off x="685800" y="1981080"/>
            <a:ext cx="3809880" cy="411480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48320" y="198108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mocr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presented </a:t>
            </a:r>
            <a:r>
              <a:rPr b="0" lang="ja-JP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mon Man</a:t>
            </a:r>
            <a:r>
              <a:rPr b="0" lang="ja-JP" sz="4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7E880-A0B1-4B9A-B748-B94F4B0623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drew Jacks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ckground Knowledg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3" descr="jackson"/>
          <p:cNvPicPr/>
          <p:nvPr/>
        </p:nvPicPr>
        <p:blipFill>
          <a:blip r:embed="rId1"/>
          <a:stretch/>
        </p:blipFill>
        <p:spPr>
          <a:xfrm>
            <a:off x="685800" y="1981080"/>
            <a:ext cx="3809880" cy="411480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emocr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presented </a:t>
            </a:r>
            <a:r>
              <a:rPr b="0" lang="ja-JP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mmon Man</a:t>
            </a:r>
            <a:r>
              <a:rPr b="0" lang="ja-JP" sz="36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pposed government controlled by wealt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38442-CA29-4690-B85A-1893A79294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drew Jacks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ckground Knowledg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3" descr="jackson"/>
          <p:cNvPicPr/>
          <p:nvPr/>
        </p:nvPicPr>
        <p:blipFill>
          <a:blip r:embed="rId1"/>
          <a:stretch/>
        </p:blipFill>
        <p:spPr>
          <a:xfrm>
            <a:off x="685800" y="1981080"/>
            <a:ext cx="3809880" cy="411480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upported Majority ru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C7EFD-00ED-4F79-AFBD-CF1D977485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drew Jacks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ckground Knowledg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3" descr="jackson"/>
          <p:cNvPicPr/>
          <p:nvPr/>
        </p:nvPicPr>
        <p:blipFill>
          <a:blip r:embed="rId1"/>
          <a:stretch/>
        </p:blipFill>
        <p:spPr>
          <a:xfrm>
            <a:off x="685800" y="1981080"/>
            <a:ext cx="3809880" cy="411480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upported Majority ru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Jacksonian Democ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E315E-BC78-4087-AE64-3B2892D2BF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drew Jacks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ckground Knowledg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3" descr="jackson"/>
          <p:cNvPicPr/>
          <p:nvPr/>
        </p:nvPicPr>
        <p:blipFill>
          <a:blip r:embed="rId1"/>
          <a:stretch/>
        </p:blipFill>
        <p:spPr>
          <a:xfrm>
            <a:off x="685800" y="1981080"/>
            <a:ext cx="3809880" cy="411480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upported Majority ru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Jacksonian Democ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lected in 182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8B38A-7E89-42DB-8300-26C8D57349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drew Jacks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ckground Knowledg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3" descr="jackson"/>
          <p:cNvPicPr/>
          <p:nvPr/>
        </p:nvPicPr>
        <p:blipFill>
          <a:blip r:embed="rId1"/>
          <a:stretch/>
        </p:blipFill>
        <p:spPr>
          <a:xfrm>
            <a:off x="685800" y="1981080"/>
            <a:ext cx="3809880" cy="411480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urn to page 37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read last paragraph and determine the 3 issues that Jackson faced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9T05:02:32Z</dcterms:created>
  <dc:creator>Archer Anita</dc:creator>
  <dc:description/>
  <dc:language>en-US</dc:language>
  <cp:lastModifiedBy>Becky Brandl</cp:lastModifiedBy>
  <dcterms:modified xsi:type="dcterms:W3CDTF">2012-07-20T18:48:38Z</dcterms:modified>
  <cp:revision>5</cp:revision>
  <dc:subject/>
  <dc:title>Jackson’s Policy Toward Native Americans </dc:title>
</cp:coreProperties>
</file>